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9A2-8CE5-4E42-812A-4D60A8A5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E08-19B8-458F-AF32-A64919E4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723-78C7-433F-9F30-1E394981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D8F-C211-413E-B6F9-09A0A60B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C7A3-9795-4C6C-B142-10B2141E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3A5-73D5-4003-AB10-E3853779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CCA-ADF8-4092-903D-EBEAA71A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358-B9A1-45D4-8DB3-43C2CD5C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AE2-FFED-48CB-991E-8E360B27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511-57A2-420C-BD30-BA09A89C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33DA-6871-4431-BC0F-898491DD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D37-2CEE-4231-8E2D-4BD9DC3A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ADD0-D524-4A00-831A-CE1176202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981080"/>
          <a:ext cx="8077320" cy="44960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22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3" name="Picture 2" descr="C:\Users\dwilliams2\AppData\Local\Microsoft\Windows\Temporary Internet Files\Content.IE5\P0DV8HYK\MC900354298[2].wmf"/>
          <p:cNvPicPr/>
          <p:nvPr/>
        </p:nvPicPr>
        <p:blipFill>
          <a:blip r:embed="rId1"/>
          <a:stretch/>
        </p:blipFill>
        <p:spPr>
          <a:xfrm>
            <a:off x="4651200" y="5334120"/>
            <a:ext cx="1266840" cy="129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dwilliams2\AppData\Local\Microsoft\Windows\Temporary Internet Files\Content.IE5\P0DV8HYK\MC900354098[1].wmf"/>
          <p:cNvPicPr/>
          <p:nvPr/>
        </p:nvPicPr>
        <p:blipFill>
          <a:blip r:embed="rId2"/>
          <a:stretch/>
        </p:blipFill>
        <p:spPr>
          <a:xfrm>
            <a:off x="2932200" y="5580000"/>
            <a:ext cx="1208160" cy="1443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dwilliams2\AppData\Local\Microsoft\Windows\Temporary Internet Files\Content.IE5\JT9G065V\MC900436248[1].png"/>
          <p:cNvPicPr/>
          <p:nvPr/>
        </p:nvPicPr>
        <p:blipFill>
          <a:blip r:embed="rId3"/>
          <a:stretch/>
        </p:blipFill>
        <p:spPr>
          <a:xfrm>
            <a:off x="5486400" y="5925960"/>
            <a:ext cx="1276200" cy="750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dwilliams2\AppData\Local\Microsoft\Windows\Temporary Internet Files\Content.IE5\3EO20UPZ\MC900022956[1].wmf"/>
          <p:cNvPicPr/>
          <p:nvPr/>
        </p:nvPicPr>
        <p:blipFill>
          <a:blip r:embed="rId4"/>
          <a:stretch/>
        </p:blipFill>
        <p:spPr>
          <a:xfrm>
            <a:off x="3800520" y="5745240"/>
            <a:ext cx="880920" cy="1112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dwilliams2\AppData\Local\Microsoft\Windows\Temporary Internet Files\Content.IE5\P0DV8HYK\MC900028383[1].wmf"/>
          <p:cNvPicPr/>
          <p:nvPr/>
        </p:nvPicPr>
        <p:blipFill>
          <a:blip r:embed="rId5"/>
          <a:stretch/>
        </p:blipFill>
        <p:spPr>
          <a:xfrm>
            <a:off x="2317680" y="5710320"/>
            <a:ext cx="1176480" cy="896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dwilliams2\AppData\Local\Microsoft\Windows\Temporary Internet Files\Content.IE5\JT9G065V\MP900408893[1].jpg"/>
          <p:cNvPicPr/>
          <p:nvPr/>
        </p:nvPicPr>
        <p:blipFill>
          <a:blip r:embed="rId6"/>
          <a:stretch/>
        </p:blipFill>
        <p:spPr>
          <a:xfrm>
            <a:off x="1973160" y="5045040"/>
            <a:ext cx="8463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5:41:53Z</dcterms:created>
  <dc:creator>Deborah Williams</dc:creator>
  <dc:description/>
  <dc:language>en-US</dc:language>
  <cp:lastModifiedBy>Deborah Williams</cp:lastModifiedBy>
  <dcterms:modified xsi:type="dcterms:W3CDTF">2013-01-17T18:43:57Z</dcterms:modified>
  <cp:revision>2</cp:revision>
  <dc:subject/>
  <dc:title>PowerPoint Presentation</dc:title>
</cp:coreProperties>
</file>